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4C19-8384-4CE4-ADBD-AB3FD1028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E464-270B-4698-9095-5FA354B6D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A9A0-DF4A-4C7C-A498-38FEBB49C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2.30 Loading and unloading of respiratory g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C35B-A1E3-4FA2-9800-7BEDB086E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7B10-8A93-482C-A290-7B187ECFB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8B31-1637-4B80-8470-6770C7707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032D-E188-4E70-847E-190A51BA1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8190-3898-443D-B910-1AE789BB7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349F-DDB7-4729-B30F-2E4D749B1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9F3F-5F45-453F-BDE9-0EDFC4163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2.22 Diversity in the structure of gills, external body surfaces that function in gas ex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F936-6182-4B55-8AD6-0724C51F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ACF1-5BB8-4808-A2EF-9E5C0303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A5E-FD0E-44F1-8CB1-C81BB1F3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4FBB-7F5A-4811-99A9-6B2D6265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DF13-F477-4BEC-9B57-FFF1BCE7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2600-9472-4EE0-8C34-78E24470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70F6-C502-4E4F-B0D4-F387B400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0958-83D6-4EE5-B0D2-B90CFC34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329F-B24B-44F1-81E5-C00FFC1B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2A63-71D5-4094-859C-141D33CD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A52C-8178-4BD5-8E81-9115E8C5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CB87-D85F-4507-9019-7B351CA5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3A0F-8B4A-4216-B70A-4C77F55F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FC83-E673-4892-925E-7D756E79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60C2-E259-4918-835D-86432F63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CC60-BE5A-490C-AEB2-AEB4B1FD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C751-CEFA-4EF5-BF61-FCBC4495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679A-38D1-4F53-90BD-BAB7D81A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29A0-7D44-4876-94E7-78427665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45B8-A34F-42F2-BE97-B41D4685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6A09-8711-43A0-BF00-5784BF61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7896-ADDD-4035-ACA2-A57E4D4D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167B-4BA5-40EF-A59A-1CA3911B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44AD-D691-4ADF-9786-F8EB7F6E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5CFD-B92A-4509-8448-6C08D4C35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fb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0" y="762120"/>
            <a:ext cx="9144000" cy="76176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C:\Documents and Settings\dking\Desktop\55823Reece_Marketing_Cover\55823Reece9e_webdev.jpg"/>
          <p:cNvPicPr/>
          <p:nvPr/>
        </p:nvPicPr>
        <p:blipFill>
          <a:blip r:embed="rId2"/>
          <a:srcRect l="15728" t="38258" r="-249" b="23917"/>
          <a:stretch/>
        </p:blipFill>
        <p:spPr>
          <a:xfrm>
            <a:off x="0" y="1512720"/>
            <a:ext cx="9171000" cy="5040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9"/>
          <p:cNvSpPr/>
          <p:nvPr/>
        </p:nvSpPr>
        <p:spPr>
          <a:xfrm>
            <a:off x="1440" y="0"/>
            <a:ext cx="9145800" cy="7632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PRES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AMPBELL BIOLOGY, NINTH E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e B. Reece, Lisa A. Urry, Michael L. Cain, Steven A. Wasserman, Peter V. Minorsky, Robert B. Jack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152280" y="660384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11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705720" y="5562720"/>
            <a:ext cx="2361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ctures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rin Bar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Kathleen Fitzpatr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108840"/>
            <a:ext cx="1911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200400" y="6108840"/>
            <a:ext cx="290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629040" y="6108840"/>
            <a:ext cx="1911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91AD-7826-46C2-BD3C-7389DBFC7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8"/>
          <p:cNvSpPr/>
          <p:nvPr/>
        </p:nvSpPr>
        <p:spPr>
          <a:xfrm>
            <a:off x="39600" y="1917720"/>
            <a:ext cx="827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irculation and Gas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5880" y="838080"/>
            <a:ext cx="26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pter 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mmalian respiratory syste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42_25aRespiratorySystem-L.jpg"/>
          <p:cNvPicPr/>
          <p:nvPr/>
        </p:nvPicPr>
        <p:blipFill>
          <a:blip r:embed="rId1"/>
          <a:stretch/>
        </p:blipFill>
        <p:spPr>
          <a:xfrm>
            <a:off x="1676520" y="1066680"/>
            <a:ext cx="5538600" cy="56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thway of 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Nose/mou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ltered, warmed, humid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Ph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Laryn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ntains vocal 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Trache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indpipe; lined with carti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Bronch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branches to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Bronchi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Alveo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ir sacs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as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Muc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raps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weeps particles up to ph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veol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Content Placeholder 3" descr="42_25bRespiratorySystem-L.jpg"/>
          <p:cNvPicPr/>
          <p:nvPr/>
        </p:nvPicPr>
        <p:blipFill>
          <a:blip r:embed="rId1"/>
          <a:stretch/>
        </p:blipFill>
        <p:spPr>
          <a:xfrm>
            <a:off x="762120" y="1981080"/>
            <a:ext cx="4525920" cy="4114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42_25cRespiratorySystem-L.jpg"/>
          <p:cNvPicPr/>
          <p:nvPr/>
        </p:nvPicPr>
        <p:blipFill>
          <a:blip r:embed="rId2"/>
          <a:stretch/>
        </p:blipFill>
        <p:spPr>
          <a:xfrm>
            <a:off x="5603760" y="533520"/>
            <a:ext cx="3229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25560"/>
            <a:ext cx="25909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2.30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69" descr="42_30aRespiratoryGases-U"/>
          <p:cNvPicPr/>
          <p:nvPr/>
        </p:nvPicPr>
        <p:blipFill>
          <a:blip r:embed="rId1"/>
          <a:stretch/>
        </p:blipFill>
        <p:spPr>
          <a:xfrm>
            <a:off x="1816200" y="136440"/>
            <a:ext cx="5511600" cy="6585120"/>
          </a:xfrm>
          <a:prstGeom prst="rect">
            <a:avLst/>
          </a:prstGeom>
          <a:ln w="0">
            <a:noFill/>
          </a:ln>
        </p:spPr>
      </p:pic>
      <p:sp>
        <p:nvSpPr>
          <p:cNvPr id="144" name="Oval 6"/>
          <p:cNvSpPr/>
          <p:nvPr/>
        </p:nvSpPr>
        <p:spPr>
          <a:xfrm>
            <a:off x="1938240" y="184320"/>
            <a:ext cx="266760" cy="26640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59"/>
          <p:cNvSpPr/>
          <p:nvPr/>
        </p:nvSpPr>
        <p:spPr>
          <a:xfrm>
            <a:off x="5640480" y="730080"/>
            <a:ext cx="266760" cy="26676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60"/>
          <p:cNvSpPr/>
          <p:nvPr/>
        </p:nvSpPr>
        <p:spPr>
          <a:xfrm>
            <a:off x="5278320" y="184320"/>
            <a:ext cx="266760" cy="26640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54"/>
          <p:cNvSpPr/>
          <p:nvPr/>
        </p:nvSpPr>
        <p:spPr>
          <a:xfrm>
            <a:off x="1863720" y="2320920"/>
            <a:ext cx="266760" cy="26676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55"/>
          <p:cNvSpPr/>
          <p:nvPr/>
        </p:nvSpPr>
        <p:spPr>
          <a:xfrm>
            <a:off x="1862280" y="3543480"/>
            <a:ext cx="266400" cy="26640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56"/>
          <p:cNvSpPr/>
          <p:nvPr/>
        </p:nvSpPr>
        <p:spPr>
          <a:xfrm>
            <a:off x="5513400" y="5543640"/>
            <a:ext cx="266760" cy="26676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7"/>
          <p:cNvSpPr/>
          <p:nvPr/>
        </p:nvSpPr>
        <p:spPr>
          <a:xfrm>
            <a:off x="5634000" y="3543480"/>
            <a:ext cx="266760" cy="26640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8"/>
          <p:cNvSpPr/>
          <p:nvPr/>
        </p:nvSpPr>
        <p:spPr>
          <a:xfrm>
            <a:off x="5634000" y="2336760"/>
            <a:ext cx="266760" cy="26676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2278080" y="177840"/>
            <a:ext cx="13269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haled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5607000" y="174600"/>
            <a:ext cx="1200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aled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2192400" y="2333520"/>
            <a:ext cx="1263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lm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2187720" y="3560760"/>
            <a:ext cx="1060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956200" y="3560760"/>
            <a:ext cx="1068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5962680" y="2362320"/>
            <a:ext cx="1238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lm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5554800" y="1684440"/>
            <a:ext cx="12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ve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5964120" y="74772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ve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2525760" y="1009800"/>
            <a:ext cx="100656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ve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thel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2"/>
          <p:cNvSpPr/>
          <p:nvPr/>
        </p:nvSpPr>
        <p:spPr>
          <a:xfrm>
            <a:off x="4079880" y="4048200"/>
            <a:ext cx="666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5575320" y="4830840"/>
            <a:ext cx="1251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3562200" y="5127480"/>
            <a:ext cx="4762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4869000" y="5140440"/>
            <a:ext cx="323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5840280" y="5540400"/>
            <a:ext cx="13780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 t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7"/>
          <p:cNvSpPr/>
          <p:nvPr/>
        </p:nvSpPr>
        <p:spPr>
          <a:xfrm>
            <a:off x="1859040" y="6043680"/>
            <a:ext cx="56386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The path of respiratory gases in the circul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8"/>
          <p:cNvSpPr/>
          <p:nvPr/>
        </p:nvSpPr>
        <p:spPr>
          <a:xfrm>
            <a:off x="3475080" y="1150920"/>
            <a:ext cx="74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9"/>
          <p:cNvSpPr/>
          <p:nvPr/>
        </p:nvSpPr>
        <p:spPr>
          <a:xfrm>
            <a:off x="4789440" y="85392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0"/>
          <p:cNvSpPr/>
          <p:nvPr/>
        </p:nvSpPr>
        <p:spPr>
          <a:xfrm>
            <a:off x="4525920" y="1797120"/>
            <a:ext cx="100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1"/>
          <p:cNvSpPr/>
          <p:nvPr/>
        </p:nvSpPr>
        <p:spPr>
          <a:xfrm>
            <a:off x="5178600" y="2470320"/>
            <a:ext cx="40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2"/>
          <p:cNvSpPr/>
          <p:nvPr/>
        </p:nvSpPr>
        <p:spPr>
          <a:xfrm>
            <a:off x="3421080" y="2462040"/>
            <a:ext cx="26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3"/>
          <p:cNvSpPr/>
          <p:nvPr/>
        </p:nvSpPr>
        <p:spPr>
          <a:xfrm>
            <a:off x="3252960" y="368784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4"/>
          <p:cNvSpPr/>
          <p:nvPr/>
        </p:nvSpPr>
        <p:spPr>
          <a:xfrm>
            <a:off x="5356080" y="3675240"/>
            <a:ext cx="21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5"/>
          <p:cNvSpPr/>
          <p:nvPr/>
        </p:nvSpPr>
        <p:spPr>
          <a:xfrm>
            <a:off x="4471920" y="4948200"/>
            <a:ext cx="104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6"/>
          <p:cNvSpPr/>
          <p:nvPr/>
        </p:nvSpPr>
        <p:spPr>
          <a:xfrm>
            <a:off x="5014800" y="5681520"/>
            <a:ext cx="44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0"/>
          <p:cNvSpPr/>
          <p:nvPr/>
        </p:nvSpPr>
        <p:spPr>
          <a:xfrm>
            <a:off x="3814920" y="1287360"/>
            <a:ext cx="475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1"/>
          <p:cNvSpPr/>
          <p:nvPr/>
        </p:nvSpPr>
        <p:spPr>
          <a:xfrm>
            <a:off x="4659480" y="1295280"/>
            <a:ext cx="323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1"/>
          <p:cNvSpPr/>
          <p:nvPr/>
        </p:nvSpPr>
        <p:spPr>
          <a:xfrm>
            <a:off x="2004840" y="177840"/>
            <a:ext cx="1400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2"/>
          <p:cNvSpPr/>
          <p:nvPr/>
        </p:nvSpPr>
        <p:spPr>
          <a:xfrm>
            <a:off x="5345280" y="171360"/>
            <a:ext cx="1396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3"/>
          <p:cNvSpPr/>
          <p:nvPr/>
        </p:nvSpPr>
        <p:spPr>
          <a:xfrm>
            <a:off x="5707080" y="723960"/>
            <a:ext cx="1396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4"/>
          <p:cNvSpPr/>
          <p:nvPr/>
        </p:nvSpPr>
        <p:spPr>
          <a:xfrm>
            <a:off x="5707080" y="2336760"/>
            <a:ext cx="1396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5"/>
          <p:cNvSpPr/>
          <p:nvPr/>
        </p:nvSpPr>
        <p:spPr>
          <a:xfrm>
            <a:off x="1928880" y="2317680"/>
            <a:ext cx="1396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6"/>
          <p:cNvSpPr/>
          <p:nvPr/>
        </p:nvSpPr>
        <p:spPr>
          <a:xfrm>
            <a:off x="1928880" y="3543480"/>
            <a:ext cx="1396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7"/>
          <p:cNvSpPr/>
          <p:nvPr/>
        </p:nvSpPr>
        <p:spPr>
          <a:xfrm>
            <a:off x="5700600" y="3543480"/>
            <a:ext cx="1396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8"/>
          <p:cNvSpPr/>
          <p:nvPr/>
        </p:nvSpPr>
        <p:spPr>
          <a:xfrm>
            <a:off x="5580000" y="5543640"/>
            <a:ext cx="1396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Arial"/>
              </a:rPr>
              <a:t>Diaphrag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ome-shaped muscle separating thoracic/abdominal cavit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Content Placeholder 3" descr="42_28Breathing-L.jpg"/>
          <p:cNvPicPr/>
          <p:nvPr/>
        </p:nvPicPr>
        <p:blipFill>
          <a:blip r:embed="rId1"/>
          <a:stretch/>
        </p:blipFill>
        <p:spPr>
          <a:xfrm>
            <a:off x="720720" y="1981080"/>
            <a:ext cx="770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9320" y="50004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trol of Breathing in Huma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5960" y="1359000"/>
            <a:ext cx="434340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center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dulla oblong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s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 changes in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rbonic acid form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wers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s in the aorta and carotid art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191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42_29ControlOfBreathing-L.jpg"/>
          <p:cNvPicPr/>
          <p:nvPr/>
        </p:nvPicPr>
        <p:blipFill>
          <a:blip r:embed="rId1"/>
          <a:stretch/>
        </p:blipFill>
        <p:spPr>
          <a:xfrm>
            <a:off x="4572000" y="1523880"/>
            <a:ext cx="441972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50004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aptations for gas exchan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Hemoglob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spiratory pigment in verteb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ubunits, each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me grou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ron (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arry 4 molecules of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Bohr shi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sociates from hemoglobin when blood pH is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hropods, mollus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mocyan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i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copper (C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198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" descr="42_UN01Hemoglobin-L.jpg"/>
          <p:cNvPicPr/>
          <p:nvPr/>
        </p:nvPicPr>
        <p:blipFill>
          <a:blip r:embed="rId1"/>
          <a:stretch/>
        </p:blipFill>
        <p:spPr>
          <a:xfrm>
            <a:off x="5715000" y="3200400"/>
            <a:ext cx="251460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500040"/>
            <a:ext cx="83818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s transporte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carbonate ions (7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globin (23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d in plasma (7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205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9" descr="42_32aCO2Transport-L.jpg"/>
          <p:cNvPicPr/>
          <p:nvPr/>
        </p:nvPicPr>
        <p:blipFill>
          <a:blip r:embed="rId1"/>
          <a:stretch/>
        </p:blipFill>
        <p:spPr>
          <a:xfrm>
            <a:off x="1447920" y="2895480"/>
            <a:ext cx="2523960" cy="3749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42_32bCO2Transport-L.jpg"/>
          <p:cNvPicPr/>
          <p:nvPr/>
        </p:nvPicPr>
        <p:blipFill>
          <a:blip r:embed="rId2"/>
          <a:stretch/>
        </p:blipFill>
        <p:spPr>
          <a:xfrm>
            <a:off x="4952880" y="2819520"/>
            <a:ext cx="2568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9680" y="500040"/>
            <a:ext cx="90043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piratory Adaptations of Diving Mamm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365120"/>
            <a:ext cx="8534160" cy="46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ng mammals have evolutionary adaptations that allow them to perform extraordinary f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Weddell seals in Antarctica can remain underwater for 20 minutes to an ho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elephant seals can dive to 1,500 m and remain underwater for 2 hou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blood to body volume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ckpile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deplete it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 oxygen in their muscles in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myoglob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213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piratory Disord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sth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irways constri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ronchit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ronchi swollen and clo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neumon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flammation of lung caused by 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uberculosis (T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fectious disease caus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mphyse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lose elasticity of lung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Lung Canc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bnormal cell growth in 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42 Warm-U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130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heart b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d130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3 types of blood cells and their fun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d130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function of the lymphatic 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d130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pathway of one molecule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air into your pinky to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you need to know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characteristics of a respiratory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ransported in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way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air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BC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07960"/>
            <a:ext cx="7848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pir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53416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as exchan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s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cellular respiration and disposes of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tial pressu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exerted by a particular gas in a mixture of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s always diffuse from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ig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al pressur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104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520" y="1218960"/>
            <a:ext cx="85341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Arial"/>
              </a:rPr>
              <a:t>Respiratory med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ir o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Arial"/>
              </a:rPr>
              <a:t>Respiratory su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body wall, skin, gills, tracheae,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surface area-to-volume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animals: associated with vascula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109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9" descr="42_22_GillDiversity-U"/>
          <p:cNvPicPr/>
          <p:nvPr/>
        </p:nvPicPr>
        <p:blipFill>
          <a:blip r:embed="rId1"/>
          <a:stretch/>
        </p:blipFill>
        <p:spPr>
          <a:xfrm>
            <a:off x="297000" y="1415880"/>
            <a:ext cx="8548560" cy="4024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338040" y="4427640"/>
            <a:ext cx="191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po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unctions as g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41280" y="4994280"/>
            <a:ext cx="19162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Marine w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263760" y="4995720"/>
            <a:ext cx="19162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Cray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858960" y="3551400"/>
            <a:ext cx="131760" cy="825480"/>
          </a:xfrm>
          <a:custGeom>
            <a:avLst/>
            <a:gdLst>
              <a:gd name="textAreaLeft" fmla="*/ 84240 w 131760"/>
              <a:gd name="textAreaRight" fmla="*/ 132120 w 131760"/>
              <a:gd name="textAreaTop" fmla="*/ 21240 h 825480"/>
              <a:gd name="textAreaBottom" fmla="*/ 804240 h 82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H="1">
            <a:off x="566640" y="3967200"/>
            <a:ext cx="30168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747960" y="4094280"/>
            <a:ext cx="549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V="1">
            <a:off x="4267080" y="3881520"/>
            <a:ext cx="32544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V="1">
            <a:off x="4267080" y="3987360"/>
            <a:ext cx="4273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6394320" y="3902040"/>
            <a:ext cx="549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3"/>
          <p:cNvSpPr/>
          <p:nvPr/>
        </p:nvSpPr>
        <p:spPr>
          <a:xfrm flipV="1">
            <a:off x="6929280" y="3865320"/>
            <a:ext cx="22068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4"/>
          <p:cNvSpPr/>
          <p:nvPr/>
        </p:nvSpPr>
        <p:spPr>
          <a:xfrm>
            <a:off x="6929280" y="3995640"/>
            <a:ext cx="292320" cy="9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6481800" y="4359240"/>
            <a:ext cx="1052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be f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6184800" y="4994280"/>
            <a:ext cx="1276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) Sea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>
            <a:off x="7561440" y="447048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7570800" y="3468600"/>
            <a:ext cx="879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e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ills in aquatic anim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Arial"/>
              </a:rPr>
              <a:t>Fish gills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absorb O</a:t>
            </a:r>
            <a:r>
              <a:rPr b="0" lang="en-US" sz="2800" spc="-1" strike="noStrike" baseline="-25000">
                <a:solidFill>
                  <a:srgbClr val="7030a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 through countercurrent exchange (blood flows opposite of water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42_23_GillStructureFunc-L.jpg"/>
          <p:cNvPicPr/>
          <p:nvPr/>
        </p:nvPicPr>
        <p:blipFill>
          <a:blip r:embed="rId1"/>
          <a:stretch/>
        </p:blipFill>
        <p:spPr>
          <a:xfrm>
            <a:off x="304920" y="1523880"/>
            <a:ext cx="854712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acheal systems in insec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42_24_TrachealSystems-L.jpg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piratory system in birds (lungs + air sa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42_27_AvianRespiratory-L.jpg"/>
          <p:cNvPicPr/>
          <p:nvPr/>
        </p:nvPicPr>
        <p:blipFill>
          <a:blip r:embed="rId1"/>
          <a:stretch/>
        </p:blipFill>
        <p:spPr>
          <a:xfrm>
            <a:off x="1676520" y="1143000"/>
            <a:ext cx="57150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4:52:52Z</dcterms:created>
  <dc:creator>Jerome Burg</dc:creator>
  <dc:description/>
  <dc:language>en-US</dc:language>
  <cp:lastModifiedBy>local</cp:lastModifiedBy>
  <dcterms:modified xsi:type="dcterms:W3CDTF">2011-03-14T15:14:14Z</dcterms:modified>
  <cp:revision>82</cp:revision>
  <dc:subject/>
  <dc:title>PowerPoint Presentation</dc:title>
</cp:coreProperties>
</file>